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ct" ContentType="image/x-pict"/>
  <Override PartName="/ppt/media/image28.png" ContentType="image/png"/>
  <Override PartName="/ppt/media/image4.png" ContentType="image/png"/>
  <Override PartName="/ppt/media/image27.png" ContentType="image/png"/>
  <Override PartName="/ppt/media/image24.pct" ContentType="image/x-pict"/>
  <Override PartName="/ppt/media/image16.pct" ContentType="image/x-pict"/>
  <Override PartName="/ppt/media/Pig.wav" ContentType="audio/x-wav"/>
  <Override PartName="/ppt/media/image5.png" ContentType="image/png"/>
  <Override PartName="/ppt/media/image29.jpeg" ContentType="image/jpeg"/>
  <Override PartName="/ppt/media/image20.pct" ContentType="image/x-pict"/>
  <Override PartName="/ppt/media/image7.png" ContentType="image/png"/>
  <Override PartName="/ppt/media/image10.png" ContentType="image/png"/>
  <Override PartName="/ppt/media/image8.pct" ContentType="image/x-pict"/>
  <Override PartName="/ppt/media/image6.jpeg" ContentType="image/jpeg"/>
  <Override PartName="/ppt/media/image11.pct" ContentType="image/x-pict"/>
  <Override PartName="/ppt/media/match_strike.wav" ContentType="audio/x-wav"/>
  <Override PartName="/ppt/media/image3.pct" ContentType="image/x-pict"/>
  <Override PartName="/ppt/media/image2.png" ContentType="image/png"/>
  <Override PartName="/ppt/media/image13.pct" ContentType="image/x-pict"/>
  <Override PartName="/ppt/media/image1.png" ContentType="image/png"/>
  <Override PartName="/ppt/media/image14.pct" ContentType="image/x-pict"/>
  <Override PartName="/ppt/media/image26.png" ContentType="image/png"/>
  <Override PartName="/ppt/media/image17.jpeg" ContentType="image/jpeg"/>
  <Override PartName="/ppt/media/image9.pct" ContentType="image/x-pict"/>
  <Override PartName="/ppt/media/image18.jpeg" ContentType="image/jpeg"/>
  <Override PartName="/ppt/media/image15.png" ContentType="image/png"/>
  <Override PartName="/ppt/media/image21.jpeg" ContentType="image/jpeg"/>
  <Override PartName="/ppt/media/image19.jpeg" ContentType="image/jpeg"/>
  <Override PartName="/ppt/media/image22.pct" ContentType="image/x-pict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48A4-F410-4FF3-BA5C-6455343FB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063F-A91B-4B3E-881E-448A677EF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C915-88C1-491E-B0BC-BB58337F7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5DF2-671B-4538-841A-6024ED291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329E-BE13-40C7-951C-A9CFA2604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5C66-E99C-42FD-87E4-273B981D3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AE3B-251F-41F4-8C6A-F8CBA30C4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B0D7-0685-4014-A3FB-4BAADA4A9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6621-0330-47DA-9F87-0C9939A7F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BDA2-D2A2-409A-A9F9-027287BE5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3503-D030-4EBB-91F7-DF7C49C7F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8E41-1DCE-4C8A-AC76-B163C3F53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669A-0F92-47C6-A92B-384D9DBB9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45E2-BF16-4B05-AA4B-87B40C101028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audio" Target="../media/match_strike.wav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6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7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8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image" Target="../media/image15.png"/><Relationship Id="rId4" Type="http://schemas.openxmlformats.org/officeDocument/2006/relationships/image" Target="../media/image16.pct"/><Relationship Id="rId5" Type="http://schemas.openxmlformats.org/officeDocument/2006/relationships/image" Target="../media/image12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ct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ct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lnSpc>
                <a:spcPct val="100000"/>
              </a:lnSpc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8360" y="5165280"/>
            <a:ext cx="7772400" cy="16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 + 2 NAD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 ATP + 2 NADH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26680" y="1310400"/>
            <a:ext cx="3077280" cy="991440"/>
            <a:chOff x="2326680" y="1310400"/>
            <a:chExt cx="3077280" cy="991440"/>
          </a:xfrm>
        </p:grpSpPr>
        <p:sp>
          <p:nvSpPr>
            <p:cNvPr id="444" name=""/>
            <p:cNvSpPr/>
            <p:nvPr/>
          </p:nvSpPr>
          <p:spPr>
            <a:xfrm>
              <a:off x="3368520" y="169236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26680" y="131040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00040" y="13104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306160" y="2987280"/>
            <a:ext cx="1999080" cy="1067760"/>
            <a:chOff x="2306160" y="2987280"/>
            <a:chExt cx="1999080" cy="1067760"/>
          </a:xfrm>
        </p:grpSpPr>
        <p:sp>
          <p:nvSpPr>
            <p:cNvPr id="448" name=""/>
            <p:cNvSpPr/>
            <p:nvPr/>
          </p:nvSpPr>
          <p:spPr>
            <a:xfrm flipV="1">
              <a:off x="3368520" y="29869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6160" y="350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1280" y="350496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484280" y="243792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46480" y="28573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2096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0224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73892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134120" y="3348000"/>
            <a:ext cx="1957320" cy="1287360"/>
          </a:xfrm>
          <a:prstGeom prst="wedgeEllipseCallout">
            <a:avLst>
              <a:gd name="adj1" fmla="val -4745"/>
              <a:gd name="adj2" fmla="val 1228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081320" y="3290760"/>
            <a:ext cx="1505160" cy="986040"/>
            <a:chOff x="4081320" y="3290760"/>
            <a:chExt cx="1505160" cy="986040"/>
          </a:xfrm>
        </p:grpSpPr>
        <p:sp>
          <p:nvSpPr>
            <p:cNvPr id="458" name=""/>
            <p:cNvSpPr/>
            <p:nvPr/>
          </p:nvSpPr>
          <p:spPr>
            <a:xfrm>
              <a:off x="4081320" y="329076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01840" y="349344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605040" y="1860480"/>
            <a:ext cx="827280" cy="72252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2233080" y="3816000"/>
            <a:ext cx="2072160" cy="1067760"/>
            <a:chOff x="2233080" y="3816000"/>
            <a:chExt cx="2072160" cy="1067760"/>
          </a:xfrm>
        </p:grpSpPr>
        <p:sp>
          <p:nvSpPr>
            <p:cNvPr id="462" name=""/>
            <p:cNvSpPr/>
            <p:nvPr/>
          </p:nvSpPr>
          <p:spPr>
            <a:xfrm flipV="1">
              <a:off x="3368520" y="381564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33080" y="4332960"/>
              <a:ext cx="145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 baseline="30000">
                  <a:solidFill>
                    <a:srgbClr val="3d1666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1280" y="433368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093920" y="4176720"/>
            <a:ext cx="1444680" cy="915840"/>
            <a:chOff x="4093920" y="4176720"/>
            <a:chExt cx="1444680" cy="915840"/>
          </a:xfrm>
        </p:grpSpPr>
        <p:sp>
          <p:nvSpPr>
            <p:cNvPr id="466" name=""/>
            <p:cNvSpPr/>
            <p:nvPr/>
          </p:nvSpPr>
          <p:spPr>
            <a:xfrm>
              <a:off x="4093920" y="43297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4379760" y="417672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5827680" y="4411800"/>
            <a:ext cx="1957320" cy="1287360"/>
          </a:xfrm>
          <a:prstGeom prst="wedgeEllipseCallout">
            <a:avLst>
              <a:gd name="adj1" fmla="val 58435"/>
              <a:gd name="adj2" fmla="val 480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ucose ha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much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giv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75" name="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76" name="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80" name="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81" name="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85" name="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86" name="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90" name="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91" name="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95" name="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96" name="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502" name="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5176800" y="820800"/>
            <a:ext cx="3840120" cy="581652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254560" y="1347840"/>
            <a:ext cx="3795840" cy="5300640"/>
            <a:chOff x="5254560" y="1347840"/>
            <a:chExt cx="3795840" cy="530064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rcRect l="28465" t="70504" r="27225" b="13504"/>
            <a:stretch/>
          </p:blipFill>
          <p:spPr>
            <a:xfrm>
              <a:off x="5254560" y="1347840"/>
              <a:ext cx="37958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rcRect l="28690" t="15748" r="27001" b="15000"/>
            <a:stretch/>
          </p:blipFill>
          <p:spPr>
            <a:xfrm>
              <a:off x="5256360" y="2271600"/>
              <a:ext cx="3792240" cy="437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8" name=""/>
            <p:cNvGrpSpPr/>
            <p:nvPr/>
          </p:nvGrpSpPr>
          <p:grpSpPr>
            <a:xfrm>
              <a:off x="5408640" y="1650960"/>
              <a:ext cx="3530880" cy="4896720"/>
              <a:chOff x="5408640" y="1650960"/>
              <a:chExt cx="3530880" cy="4896720"/>
            </a:xfrm>
          </p:grpSpPr>
          <p:sp>
            <p:nvSpPr>
              <p:cNvPr id="509" name=""/>
              <p:cNvSpPr/>
              <p:nvPr/>
            </p:nvSpPr>
            <p:spPr>
              <a:xfrm>
                <a:off x="7055640" y="229716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55640" y="341640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76200" y="471024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55640" y="456084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16040" y="5721480"/>
                <a:ext cx="17136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46732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90720" y="270504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7820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1204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7820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1204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628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3572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0444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55208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42184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434080" y="267660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42184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34080" y="6075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6732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78120" y="6102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177760" y="472752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160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67840" y="19764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35056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08640" y="19684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30760" y="16509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73680" y="16653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55640" y="174312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"/>
          <p:cNvSpPr/>
          <p:nvPr/>
        </p:nvSpPr>
        <p:spPr>
          <a:xfrm>
            <a:off x="0" y="258300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-31680" y="4179600"/>
            <a:ext cx="64483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 regenerating NAD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ergy production would stop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other molecule must accept H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NAD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o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s freed up for another roun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059360" y="267192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4058640" y="3525840"/>
            <a:ext cx="4508280" cy="38088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545" name="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546" name="" descr=""/>
              <p:cNvPicPr/>
              <p:nvPr/>
            </p:nvPicPr>
            <p:blipFill>
              <a:blip r:embed="rId3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7" name="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96320" y="1535400"/>
            <a:ext cx="3891960" cy="4057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aw material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29440" y="1035000"/>
            <a:ext cx="140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47240" y="488952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09040" y="1225440"/>
            <a:ext cx="2408760" cy="64224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38960" y="1209600"/>
            <a:ext cx="2735280" cy="946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28520" y="3086280"/>
            <a:ext cx="2039760" cy="2090160"/>
            <a:chOff x="128520" y="3086280"/>
            <a:chExt cx="2039760" cy="2090160"/>
          </a:xfrm>
        </p:grpSpPr>
        <p:pic>
          <p:nvPicPr>
            <p:cNvPr id="583" name="" descr=""/>
            <p:cNvPicPr/>
            <p:nvPr/>
          </p:nvPicPr>
          <p:blipFill>
            <a:blip r:embed="rId2"/>
            <a:stretch/>
          </p:blipFill>
          <p:spPr>
            <a:xfrm>
              <a:off x="128520" y="308628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30320" y="33814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36440" y="612936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30200" y="488484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1436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519920" y="2025360"/>
            <a:ext cx="4770720" cy="1022760"/>
            <a:chOff x="1519920" y="2025360"/>
            <a:chExt cx="4770720" cy="1022760"/>
          </a:xfrm>
        </p:grpSpPr>
        <p:sp>
          <p:nvSpPr>
            <p:cNvPr id="595" name=""/>
            <p:cNvSpPr/>
            <p:nvPr/>
          </p:nvSpPr>
          <p:spPr>
            <a:xfrm>
              <a:off x="558972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8440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6548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1992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527840" y="4931640"/>
            <a:ext cx="4127760" cy="1031040"/>
            <a:chOff x="1527840" y="4931640"/>
            <a:chExt cx="4127760" cy="1031040"/>
          </a:xfrm>
        </p:grpSpPr>
        <p:sp>
          <p:nvSpPr>
            <p:cNvPr id="601" name=""/>
            <p:cNvSpPr/>
            <p:nvPr/>
          </p:nvSpPr>
          <p:spPr>
            <a:xfrm>
              <a:off x="152784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68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54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304720" y="2606760"/>
            <a:ext cx="2108520" cy="746640"/>
            <a:chOff x="2304720" y="2606760"/>
            <a:chExt cx="2108520" cy="746640"/>
          </a:xfrm>
        </p:grpSpPr>
        <p:sp>
          <p:nvSpPr>
            <p:cNvPr id="607" name=""/>
            <p:cNvSpPr/>
            <p:nvPr/>
          </p:nvSpPr>
          <p:spPr>
            <a:xfrm flipV="1">
              <a:off x="304992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0472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9244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20560" y="5501880"/>
            <a:ext cx="2108520" cy="747360"/>
            <a:chOff x="2320560" y="5501880"/>
            <a:chExt cx="2108520" cy="747360"/>
          </a:xfrm>
        </p:grpSpPr>
        <p:sp>
          <p:nvSpPr>
            <p:cNvPr id="611" name=""/>
            <p:cNvSpPr/>
            <p:nvPr/>
          </p:nvSpPr>
          <p:spPr>
            <a:xfrm flipV="1">
              <a:off x="306576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2056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082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14" name="" descr="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15" name="" descr=""/>
          <p:cNvPicPr/>
          <p:nvPr/>
        </p:nvPicPr>
        <p:blipFill>
          <a:blip r:embed="rId2"/>
          <a:srcRect l="451663" t="0" r="790244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16" name="" descr=""/>
          <p:cNvPicPr/>
          <p:nvPr/>
        </p:nvPicPr>
        <p:blipFill>
          <a:blip r:embed="rId3"/>
          <a:srcRect l="0" t="0" r="2414403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4402800" y="31885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12000" y="59983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6348240" y="636480"/>
            <a:ext cx="2039760" cy="2090520"/>
            <a:chOff x="6348240" y="636480"/>
            <a:chExt cx="2039760" cy="2090520"/>
          </a:xfrm>
        </p:grpSpPr>
        <p:pic>
          <p:nvPicPr>
            <p:cNvPr id="621" name="" descr=""/>
            <p:cNvPicPr/>
            <p:nvPr/>
          </p:nvPicPr>
          <p:blipFill>
            <a:blip r:embed="rId1"/>
            <a:stretch/>
          </p:blipFill>
          <p:spPr>
            <a:xfrm>
              <a:off x="6348240" y="63648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350040" y="9316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627" name="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629" name="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3" name="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634" name="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26360" y="2428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6218280" y="500040"/>
            <a:ext cx="2039400" cy="2090520"/>
            <a:chOff x="6218280" y="500040"/>
            <a:chExt cx="2039400" cy="2090520"/>
          </a:xfrm>
        </p:grpSpPr>
        <p:pic>
          <p:nvPicPr>
            <p:cNvPr id="644" name="" descr=""/>
            <p:cNvPicPr/>
            <p:nvPr/>
          </p:nvPicPr>
          <p:blipFill>
            <a:blip r:embed="rId1"/>
            <a:stretch/>
          </p:blipFill>
          <p:spPr>
            <a:xfrm>
              <a:off x="6218280" y="500040"/>
              <a:ext cx="20394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219720" y="79524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651" name="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653" name="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657" name="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64" name="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864480" y="23004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me fung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86760" y="2366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72" name="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74" name="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" name="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77" name="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79" name="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8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8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88" name=""/>
          <p:cNvSpPr/>
          <p:nvPr/>
        </p:nvSpPr>
        <p:spPr>
          <a:xfrm flipH="1">
            <a:off x="296784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94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714" name="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ore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5" name="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47040" y="4842000"/>
            <a:ext cx="1531800" cy="191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5033880" y="6070680"/>
            <a:ext cx="2694240" cy="708120"/>
          </a:xfrm>
          <a:prstGeom prst="wedgeEllipseCallout">
            <a:avLst>
              <a:gd name="adj1" fmla="val 72273"/>
              <a:gd name="adj2" fmla="val -1482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’s not enough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P for m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5120" y="1371240"/>
            <a:ext cx="803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yc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i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9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1040" y="5338800"/>
            <a:ext cx="2001960" cy="14065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77888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68720" y="5315040"/>
            <a:ext cx="2386080" cy="1450800"/>
          </a:xfrm>
          <a:prstGeom prst="wedgeEllipseCallout">
            <a:avLst>
              <a:gd name="adj1" fmla="val 79407"/>
              <a:gd name="adj2" fmla="val -15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72120" y="1184400"/>
            <a:ext cx="2386080" cy="1109520"/>
          </a:xfrm>
          <a:prstGeom prst="wedgeEllipseCallout">
            <a:avLst>
              <a:gd name="adj1" fmla="val 37625"/>
              <a:gd name="adj2" fmla="val -12110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nzym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f glycolysis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“well-conserved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 yield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5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48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52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5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327440" y="3706920"/>
            <a:ext cx="1536840" cy="901080"/>
            <a:chOff x="7327440" y="3706920"/>
            <a:chExt cx="1536840" cy="901080"/>
          </a:xfrm>
        </p:grpSpPr>
        <p:sp>
          <p:nvSpPr>
            <p:cNvPr id="159" name=""/>
            <p:cNvSpPr/>
            <p:nvPr/>
          </p:nvSpPr>
          <p:spPr>
            <a:xfrm>
              <a:off x="7842240" y="390204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27440" y="370692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0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3" name="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78" name="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3" name="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88" name="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3" name="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198" name="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3" name="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08" name="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3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6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473960" y="4253040"/>
            <a:ext cx="1444680" cy="915840"/>
            <a:chOff x="7473960" y="4253040"/>
            <a:chExt cx="1444680" cy="915840"/>
          </a:xfrm>
        </p:grpSpPr>
        <p:sp>
          <p:nvSpPr>
            <p:cNvPr id="219" name=""/>
            <p:cNvSpPr/>
            <p:nvPr/>
          </p:nvSpPr>
          <p:spPr>
            <a:xfrm>
              <a:off x="7473960" y="443628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7759800" y="425304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27320"/>
            <a:ext cx="4776840" cy="5411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073840" y="5443560"/>
            <a:ext cx="1687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et yield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4 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983280" y="4923000"/>
            <a:ext cx="2160720" cy="1919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973840" y="4446720"/>
            <a:ext cx="1195200" cy="1041120"/>
          </a:xfrm>
          <a:prstGeom prst="wedgeEllipseCallout">
            <a:avLst>
              <a:gd name="adj1" fmla="val 36986"/>
              <a:gd name="adj2" fmla="val 85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6760" y="216216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95920" y="3747960"/>
            <a:ext cx="1749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-</a:t>
            </a:r>
            <a:br>
              <a:rPr sz="1200"/>
            </a:b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ut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</a:t>
            </a: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7160" y="1344960"/>
            <a:ext cx="266256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3640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55960" y="5300640"/>
            <a:ext cx="3780000" cy="143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83000" y="5091120"/>
            <a:ext cx="501480" cy="171360"/>
          </a:xfrm>
          <a:custGeom>
            <a:avLst/>
            <a:gdLst/>
            <a:ahLst/>
            <a:rect l="l" t="t" r="r" b="b"/>
            <a:pathLst>
              <a:path w="230" h="108">
                <a:moveTo>
                  <a:pt x="0" y="3"/>
                </a:moveTo>
                <a:cubicBezTo>
                  <a:pt x="62" y="1"/>
                  <a:pt x="125" y="0"/>
                  <a:pt x="163" y="17"/>
                </a:cubicBezTo>
                <a:cubicBezTo>
                  <a:pt x="201" y="34"/>
                  <a:pt x="215" y="71"/>
                  <a:pt x="230" y="1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3772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7400" y="1392120"/>
            <a:ext cx="333360" cy="82800"/>
          </a:xfrm>
          <a:prstGeom prst="rightArrow">
            <a:avLst>
              <a:gd name="adj1" fmla="val 50000"/>
              <a:gd name="adj2" fmla="val 1006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5960" y="1703520"/>
            <a:ext cx="3780000" cy="69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3920" y="2009880"/>
            <a:ext cx="557280" cy="91800"/>
          </a:xfrm>
          <a:custGeom>
            <a:avLst/>
            <a:gdLst/>
            <a:ahLst/>
            <a:rect l="l" t="t" r="r" b="b"/>
            <a:pathLst>
              <a:path w="354" h="58">
                <a:moveTo>
                  <a:pt x="0" y="53"/>
                </a:moveTo>
                <a:cubicBezTo>
                  <a:pt x="68" y="26"/>
                  <a:pt x="137" y="0"/>
                  <a:pt x="196" y="1"/>
                </a:cubicBezTo>
                <a:cubicBezTo>
                  <a:pt x="255" y="2"/>
                  <a:pt x="304" y="30"/>
                  <a:pt x="354" y="5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s th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s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substrate level phosphorylatio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9840" y="2644920"/>
            <a:ext cx="3227400" cy="192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943600" y="5607000"/>
            <a:ext cx="1225440" cy="304920"/>
          </a:xfrm>
          <a:prstGeom prst="rightArrow">
            <a:avLst>
              <a:gd name="adj1" fmla="val 50000"/>
              <a:gd name="adj2" fmla="val 10047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407" name="" descr="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20035200">
            <a:off x="7364520" y="5073120"/>
            <a:ext cx="1614240" cy="158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43600" y="4884840"/>
            <a:ext cx="1217520" cy="30456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0078400">
            <a:off x="7527600" y="4616280"/>
            <a:ext cx="104292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01-04T04:15:12Z</cp:lastPrinted>
  <dcterms:modified xsi:type="dcterms:W3CDTF">2009-01-11T21:42:52Z</dcterms:modified>
  <cp:revision>105</cp:revision>
  <dc:subject/>
  <dc:title>Chapter  9.  Cellular Respiration  STAGE 1: Glycolysis</dc:title>
</cp:coreProperties>
</file>